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CCA-F532-4B92-A1BD-459C5CE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EB6-9F73-4DE1-998A-6038EAF6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B97-E898-40B1-9BFB-B8B79030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B64-7106-4DE3-AB3B-FF2B90CC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879-E03C-4BFC-BF32-113DF7D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C5F-9A09-481E-B5A9-D68BDA3B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E11-E7B1-4394-ABEF-C4CC90D0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9AE-C675-4A70-8B51-02ACA0A9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B3-02DF-4BD0-BCE0-A46C587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6BE-6287-4E66-9874-B8DA120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60A-8C83-42BE-98D3-256DCB2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66A-3B79-499E-8763-821AB86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B8F-E3D0-4A26-A43F-41EE851C6E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6.3 Involuntary and Voluntary Childles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1. Phys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Side effects from fertilit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417760"/>
            <a:ext cx="2700360" cy="25239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6480" y="4565520"/>
            <a:ext cx="1670040" cy="46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2843280" y="246528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5365800" y="2465280"/>
            <a:ext cx="2206440" cy="245916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5"/>
          <a:stretch/>
        </p:blipFill>
        <p:spPr>
          <a:xfrm>
            <a:off x="5241960" y="4889520"/>
            <a:ext cx="2878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2. Objective Bu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49320" y="4687920"/>
            <a:ext cx="33224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788000" y="1343160"/>
            <a:ext cx="3047760" cy="33462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4" descr=""/>
          <p:cNvPicPr/>
          <p:nvPr/>
        </p:nvPicPr>
        <p:blipFill>
          <a:blip r:embed="rId4"/>
          <a:stretch/>
        </p:blipFill>
        <p:spPr>
          <a:xfrm>
            <a:off x="4968720" y="4687920"/>
            <a:ext cx="2687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2. Objective Bu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Couples must have intercourse, or have reproductive treatments at a specific date each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lso organize the rest of their lives around thes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Working women had to use all of their holidays for one year for on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3.  Subjective Psychological S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Emotional relationship between partners i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reatment often results in personal interests being given up entirely, which leads to stress, anxiety an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Feelings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Sadness/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Loss of fulfilling a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nger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Overcoming Infer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Over to you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“ </a:t>
            </a: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Children are the cloth of the body.  Without Children, you are nak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What does this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his means that a man’s wealth is measured, in part, by the number of children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A woman’s value to her husband is determined by her ability to bea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o some people a marriage without children is seen a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Occurs when a couple or individual wants to have children and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This state is generally the result of one of two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4827600" y="1517760"/>
            <a:ext cx="467028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1638360"/>
            <a:ext cx="82072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40-50% of infertility problems is a result of a physic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852640"/>
            <a:ext cx="2987640" cy="400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285768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845320" y="3978360"/>
            <a:ext cx="329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Psychological Impact of Involuntary Chil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3057480" cy="361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057480" y="2421000"/>
            <a:ext cx="2857680" cy="361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915160" y="2421000"/>
            <a:ext cx="3228840" cy="361944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4"/>
          <a:stretch/>
        </p:blipFill>
        <p:spPr>
          <a:xfrm>
            <a:off x="5834160" y="5254560"/>
            <a:ext cx="2792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1999 German Sociolog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52 interviews with women and men who had undergone treatments for in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b050"/>
                </a:solidFill>
                <a:latin typeface="Arial"/>
              </a:rPr>
              <a:t>Burden of undergoing these treatments can be divided into thre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0-12-15T05:16:22Z</dcterms:modified>
  <cp:revision>45</cp:revision>
  <dc:subject/>
  <dc:title>Diapositiva 1</dc:title>
</cp:coreProperties>
</file>